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DDA-42E8-46B3-A6F3-23A37352F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FCE-0BEF-4318-B949-28AEB354E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5F0-FCC7-4BD1-9A83-673C99DF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EC1-7E51-4C2E-86A0-62A9AFB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5BF-7D12-4424-A22E-F76435BF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1F4-AF3C-48E9-9685-34C824F3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71B-C00A-4E69-B5FA-07238BF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2A1-AE66-4FE3-A5DC-5C14389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D05-8F49-41A3-A41A-DCD959C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DF7-222E-4C58-ACFF-C13C0E2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450-1ABE-49E0-9F5D-14B9519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ECF-594D-4BC2-B88E-B66FE7F0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EA4-2403-4627-ABCD-1C2BBCD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5A8-82F9-4BB8-9E9B-B87D927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5042-DF21-47AC-99A5-20CA3886A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15E1-FCEA-4777-892F-B5E27618B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дека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366-EF80-4B0C-9F8E-12BA3DD8A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12-02T05:49:43Z</dcterms:modified>
  <cp:revision>175</cp:revision>
  <dc:subject/>
  <dc:title>Презентация PowerPoint</dc:title>
</cp:coreProperties>
</file>